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726-60FA-455C-A6C7-A74BD498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363-B822-453C-A7FD-933AC4E8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B5B-04DD-4775-884A-CB7B25D3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7E8-F540-4E3D-8643-AF49F767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AD0F-9FC2-4A65-A13D-7DB3C2D1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57FF-360F-4CFF-A418-FCEA18F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94E3-948A-472C-A474-4AB5C67C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9CF-338C-44EA-87B5-D4DEEF42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29D3-E89D-47EF-9268-43534BF9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F06-4180-413A-9357-3D985AF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0F1-8B6D-4F19-810A-593748B5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5A8-30FC-4EC0-8EBE-2D8463F1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1BDA-CD99-42B3-9D48-0FAB792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1D75-0AE7-4132-8588-42AFC9DA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E396-A15A-4F7B-B00C-664CCCA6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DEA-D0A2-4A61-8F75-86C542FA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D1C7-935A-4766-A90D-1DD2136A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7D120-87F0-4C9F-B260-868A025D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F8890-25B4-4708-BC48-7CB712C4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00921-F110-43E5-B9AE-36E72E47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502AE-A93F-48EE-9559-DC90531C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29136-CAA6-4749-84C7-3BA27423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97B-9EC8-4EB6-B519-7CF7552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51306-A6A9-44E1-AF6C-F6B53FD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612B1-1C4E-4CBA-9F84-663A62F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C39C3-47EC-40FA-99FA-17C70EA5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33754-CE14-430A-932F-3F3E859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E6772-BD63-46E5-8868-FF72F64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862D9-2020-49D1-AD8B-8E6C8C66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8F8EA-708D-438D-801E-B361FAD5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31F7-3212-431C-995F-3954A561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BC17-93A2-42FA-9484-85A62769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534C-7FBD-4F37-A829-B94DAF3F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AE3-80D1-43CD-952E-AB277A26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B597-644F-40D0-95D7-22830B08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5577-C6C7-40A8-8305-B3F0994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641A-4E49-4EDF-986C-1E542363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5146-80B0-4756-B270-B5041D51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C10BD-4723-4691-A5BE-D8BABA77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45A76-A01C-4310-9919-C17975F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3071-2DB8-4284-8695-5BF4EEE0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30E2-2110-4605-A606-D676B9CE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9CCB-C8DC-4EC2-97DD-1358038B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B0BF3-CD8D-43D2-8042-7B7A6559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D6F-8CD0-48DF-BC4E-980DD7B8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0F2B9-A5E5-4893-8149-AAC84394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70057-638A-4643-B264-37199D7E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C24C5-00F8-474E-9D0E-3ED08BE0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68540-79B1-493F-BB53-67A0AD26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10558-66DC-4B8B-A9F0-B54367D2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37C10-B9E0-462D-95AF-3F35405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83833-5BA4-4E76-AEB0-18CE802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FD54C-5D1B-495F-A782-430EB82B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0A7B0-E788-4047-954F-A8FB9053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2A57C-0197-443A-90B2-E6E1C528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2F8-92BF-4899-A7ED-636BAA26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65066-B08D-44D2-B7B5-CADFFCAA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A01DC-97C0-4DB4-A988-E3BC4F10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143CE-5A04-4AFF-9625-61807B70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E2CAA-81B3-47A5-86EE-64E551FD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58379-CF6C-45C1-8CF0-76D69B61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BE285-0138-472B-BA43-CB52C3E9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B47D2-1855-4DD5-9DE2-E97C17CD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5C17F-C67F-46FE-A5FC-E06C73E8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996C5-931A-4B11-83D9-69CAD5C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F0B63-27AA-4DC2-853C-E05BF33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216-5BFF-43CD-976D-F0356849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0EA8C-C7A0-49DF-8A5A-498FEF19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A02C6-4995-4314-B738-28C1F9A6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3A427-0BC2-43B8-B87F-AB61525C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F89D5-CC29-4D6E-B5CC-49A088E1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9839D-09B1-4FD4-BB30-CF185EA5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A2753-20A7-4E78-AFB4-CA13B134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B1B71-705A-4EE4-AEDF-B2F7A68C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FFF73-5255-47A0-A60A-EE29F473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68E04-469B-4EE0-913B-3EFEA98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579EF-F976-4290-BDB6-FEEBB3F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836-CB63-456B-A8F6-02FB031A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0E657-FFE3-4E04-86A0-A22B8A0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B0041-425E-48B1-8649-66912EB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1D3C5-730D-462F-801A-088BC586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6AE1C-CF3C-49B9-9D66-CCA37878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1A8B2-2071-42B7-A31D-74F13337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240-9B61-46BC-8247-A1CB1E5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137F-003B-4002-9467-3F5619F509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59F4-D6E6-4253-BBF6-A7BDFE2D5D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02B-1584-4B9B-B12D-55CDD3561D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309-F0B6-4C7C-BB82-61DD07961FF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3FE-B583-432E-8430-A3C64BA3D3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5C02-D792-443A-B65F-EEBDABA9FE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CF3-FFA3-4EF8-B3F3-3F87467B1B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3" descr=""/>
          <p:cNvPicPr/>
          <p:nvPr/>
        </p:nvPicPr>
        <p:blipFill>
          <a:blip r:embed="rId1"/>
          <a:stretch/>
        </p:blipFill>
        <p:spPr>
          <a:xfrm>
            <a:off x="-237960" y="523800"/>
            <a:ext cx="9673920" cy="46450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5257800" y="5486400"/>
            <a:ext cx="309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 –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БОУ СОШ №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орякина О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. Камы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80880" y="304920"/>
            <a:ext cx="83059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entury Schoolbook"/>
              </a:rPr>
              <a:t>Реакция группирования со сверстниками как ведущий социопсихолог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ерриториальные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елинквентные (преступные)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ркоманические группы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490c5"/>
                </a:solidFill>
                <a:latin typeface="Century Schoolboo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8" descr="i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2320" y="312408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380880" y="228600"/>
            <a:ext cx="830592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уть аддиктивного поведения заключается в том, что, стремясь уйти от реальности, люди пытаются искусственным путем изменить свое психическое состояние, что дает им иллюзию безопасности, восстановления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и представляют собой серьезную угрозу для здоровья (физического и психического) не только самих аддиктов, но и тех, кто их окружает. Значительный ущерб наносится межличностным отно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 это ведет к конфликтным ситуациям сред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нову конфликтных ситуаций в группе между отдельными людьми составляет столкновение между противоположными интересами, мнениями, целями, различными представлениями о способе их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304920" y="228600"/>
            <a:ext cx="8305560" cy="9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Структура личности подрост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В ней нет ничего устойчивого, окончательного и неподвиж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Все в ней- переходит, все теч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(Л. С. Выготский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0" descr="22"/>
          <p:cNvPicPr/>
          <p:nvPr/>
        </p:nvPicPr>
        <p:blipFill>
          <a:blip r:embed="rId1"/>
          <a:stretch/>
        </p:blipFill>
        <p:spPr>
          <a:xfrm>
            <a:off x="395280" y="260280"/>
            <a:ext cx="1338120" cy="19447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1828800" y="228600"/>
            <a:ext cx="685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сихологического словар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остковый возрас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тадия онтогенетического развития между детством и взросл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11–12 до 16–17 лет), которая характеризуется качественными изменениями, связанными с половым созреванием и вхождением во взрослую жиз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152280" y="24382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mbria"/>
                <a:ea typeface="Times New Roman"/>
              </a:rPr>
              <a:t>Подростковый возраст</a:t>
            </a: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Cambr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очень сложный период. Именно в этом возрасте легко ошибиться, пойти по неверному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304920" y="3809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лавное, что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mbria"/>
              </a:rPr>
              <a:t>отличает подростка </a:t>
            </a: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то возникновение у него ощущения собственной взрослости и стремления быть и считаться взрослы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стремится войти в мир взрослых и хочет, чтобы окружающие приняли его взросл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304920" y="304920"/>
            <a:ext cx="84582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Cambria"/>
                <a:ea typeface="Times New Roman"/>
              </a:rPr>
              <a:t>Особенности возрастной психологии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mbria"/>
                <a:ea typeface="Times New Roman"/>
              </a:rPr>
              <a:t>Положительные изменения, происходящие с подрост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оявление чувства взросл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ст самосознания, самооценки,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овышенное внимание к своей внешности (рост, фигура, лицо, одеж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оявление самостоятельности в приобретении знаний и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оявление познавательной мотив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желание быть не хуже, а лучше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228600" y="2286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mbria"/>
                <a:ea typeface="Times New Roman"/>
              </a:rPr>
              <a:t>Негативные изменения, происходящие с подрост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ранимая неустойчивая психика, высокая тревож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оявления эгоцентр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меренная манипуляция взросл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внутренний конфликт с самим собой и окружающ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повышенное негативное отношение к учителям, родителям, взросл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•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ах одиночества (мысли о суицид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152280" y="11736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сток  объективно не может включиться во взрослую жизнь, но стремиться к ней и претендует на равные со взрослыми права. Изменить он пока ничего не может, но внешне подражает взросл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юда и появляются атрибуты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"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севдовзрослости"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урение сига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требление алкого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кот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усовки , (внешнее проявление "я тоже имею свою личную жизнь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пирует любые взрослые отнош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914400" y="228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2754"/>
                </a:solidFill>
                <a:latin typeface="Century Schoolbook"/>
              </a:rPr>
              <a:t>Девиант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304920" y="1676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Делинквентное 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3"/>
          <p:cNvSpPr/>
          <p:nvPr/>
        </p:nvSpPr>
        <p:spPr>
          <a:xfrm>
            <a:off x="4942800" y="289548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Аддиктивное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4"/>
          <p:cNvSpPr/>
          <p:nvPr/>
        </p:nvSpPr>
        <p:spPr>
          <a:xfrm>
            <a:off x="548640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Патохарактерологическое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04920" y="3657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Психопатологическое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2971800" y="4419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Поведение на базе гипер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Прямая со стрелкой 8"/>
          <p:cNvCxnSpPr>
            <a:endCxn id="362" idx="0"/>
          </p:cNvCxnSpPr>
          <p:nvPr/>
        </p:nvCxnSpPr>
        <p:spPr>
          <a:xfrm flipH="1">
            <a:off x="1371240" y="609480"/>
            <a:ext cx="1296000" cy="1067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Прямая со стрелкой 10"/>
          <p:cNvCxnSpPr/>
          <p:nvPr/>
        </p:nvCxnSpPr>
        <p:spPr>
          <a:xfrm>
            <a:off x="4800600" y="609120"/>
            <a:ext cx="13723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>
            <a:off x="3809880" y="761760"/>
            <a:ext cx="915120" cy="37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Прямая со стрелкой 14"/>
          <p:cNvCxnSpPr/>
          <p:nvPr/>
        </p:nvCxnSpPr>
        <p:spPr>
          <a:xfrm>
            <a:off x="4113720" y="685800"/>
            <a:ext cx="1524600" cy="221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1" name="Прямая со стрелкой 16"/>
          <p:cNvCxnSpPr/>
          <p:nvPr/>
        </p:nvCxnSpPr>
        <p:spPr>
          <a:xfrm flipH="1">
            <a:off x="2285280" y="685440"/>
            <a:ext cx="1143720" cy="297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152280" y="152280"/>
            <a:ext cx="86108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entury Schoolbook"/>
              </a:rPr>
              <a:t>Addiction</a:t>
            </a: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(англ.)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пагубная привычка, пристрастие к чему-либо, порочная скло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Аддиктивное поведение(</a:t>
            </a: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addictive behavior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стремление к уходу от реальности посредством злоупотребления различными веществами, изменяющими психическое состояние, включая алкоголь и курение табака до того, как от них сформировалась физическая 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Аддикция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в психологии — состояние сознания человека, характеризующееся привязанностью к определенной деятельности, неспособность самостоятельно ее прекра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548440" y="228600"/>
            <a:ext cx="41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entury Schoolbook"/>
              </a:rPr>
              <a:t>Нарушение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57200" y="1143000"/>
            <a:ext cx="58672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еакция эмансип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еакция увлечения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елесно-мануальные хобб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нформ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оммуникативные хоб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еакции, обусловленные формирующимся сексуальным вле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i8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72200" y="838080"/>
            <a:ext cx="2438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6T16:19:06Z</dcterms:modified>
  <cp:revision>30</cp:revision>
  <dc:subject/>
  <dc:title>Слайд 1</dc:title>
</cp:coreProperties>
</file>