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132F-DA1C-4369-8667-75E4087B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1139-7E27-44BD-82BA-FE7AE0EC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0AFF-EBA9-4BE9-9362-F6738C9B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EAA5-51D9-4446-91DC-585E60B4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1475-49A6-4233-8912-063116F81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182E-646B-4441-98A4-5DC3B387D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E114-3954-4F48-B64D-E34A43172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CC3F-98B6-467F-B7F4-B93DF484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3497-0044-4984-9BF0-29A0D9B4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ABAA-4CC7-4FD0-931F-AF6109B7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C82F-FDEB-4812-950A-32BDC233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5E73-5838-4AEC-8023-AEC6FC69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C236-F9DB-4C2B-8EBE-59AFD3B44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0F17-E950-42E2-BD04-E785D043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31FD-E016-496A-A0C0-CA0BFD6BC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AA17-07B5-4020-A418-46A77A26F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61D3-A16D-4DAC-8B6D-8EAE8C9E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7A9D-996B-4752-A65E-E40E4DCFF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9402-FC37-43AF-A0C3-212E24C33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220D-C669-46BC-B3F1-271DCBEE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FAB7-32F7-4A32-BB97-74E7F2A6D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B73B-D0EB-41F6-9FD7-3E7B012A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0B72-A490-4F42-B81B-C0922A55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FC88-389B-4CAA-B8FA-9CF637A3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11BD-8E41-4C0B-8C9B-988641CDA34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DE8E-1E66-4148-8939-DD3ACD20A83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99640" y="4005000"/>
            <a:ext cx="72723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b200"/>
                </a:solidFill>
                <a:latin typeface="Times New Roman"/>
              </a:rPr>
              <a:t>Влияние степени психологической комфортности на индекс качества обучения.</a:t>
            </a:r>
            <a:br>
              <a:rPr sz="4800"/>
            </a:br>
            <a:br>
              <a:rPr sz="4000"/>
            </a:br>
            <a:r>
              <a:rPr b="0" lang="ru-RU" sz="3000" spc="-1" strike="noStrike">
                <a:solidFill>
                  <a:srgbClr val="000000"/>
                </a:solidFill>
                <a:latin typeface="Comic Sans MS"/>
              </a:rPr>
              <a:t>Педагог-психолог: Гололобова Л. В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57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Жил мудрец, который знал все. Один человек захотел доказать, что мудрец знает не все. Зажав в ладонях бабочку, он спросил: "Скажи, мудрец, какая бабочка у меня в руках: мертвая или живая?" А сам думает: "Скажет живая - я ее умертвляю, скажет мертвая - выпущу". Мудрец, подумав, ответил: </a:t>
            </a:r>
            <a:br>
              <a:rPr sz="3200"/>
            </a:b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"Все в твоих руках"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Именно в наших с вами руках находится возможность создать в школе такую атмосферу благоприятного психологического климата, в которой дети будут чувствовать себя "как дома", радовать нас своими успехами и достижениям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198864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27092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 базе нашей школы создана экспериментальная группа педагогов, которая занимается проведением мониторинга «Диагностико-технологическое управление качеством обучения», с целью отслеживания индекса качества обученности учащихся и создание условий по его повышению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640" y="2205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66764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зультаты теста «Напряженность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685800" y="1828800"/>
          <a:ext cx="7696080" cy="3657600"/>
        </p:xfrm>
        <a:graphic>
          <a:graphicData uri="http://schemas.openxmlformats.org/drawingml/2006/table">
            <a:tbl>
              <a:tblPr/>
              <a:tblGrid>
                <a:gridCol w="3848040"/>
                <a:gridCol w="384804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ровн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% напряжен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изки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редни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ысоки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инамика напряженност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68360" y="1557360"/>
          <a:ext cx="841536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57360"/>
                    <a:ext cx="841536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848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иагностика комфортности обучения учащихся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5800" y="476280"/>
          <a:ext cx="7415280" cy="6199200"/>
        </p:xfrm>
        <a:graphic>
          <a:graphicData uri="http://schemas.openxmlformats.org/drawingml/2006/table">
            <a:tbl>
              <a:tblPr/>
              <a:tblGrid>
                <a:gridCol w="969840"/>
                <a:gridCol w="1044720"/>
                <a:gridCol w="1693800"/>
                <a:gridCol w="1235160"/>
                <a:gridCol w="1236600"/>
                <a:gridCol w="123516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№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чен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нтерес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 предме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осприятие отношения уч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амочувствие на уро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нтеллект. само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Эмоциональн. само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</a:tr>
              <a:tr h="29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5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9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2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9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ри заполнении матрицы используются следующие обозначения: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e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f66"/>
                </a:solidFill>
                <a:latin typeface="Comic Sans MS"/>
              </a:rPr>
              <a:t>желтый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цвет - позитивный результат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красный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цвет - негативный результат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зеленый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цвет - промежуточный (нейтральный) результат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1267920"/>
            <a:ext cx="7345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omic Sans MS"/>
              </a:rPr>
              <a:t>Полученные цветограммы дают ясную картину: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идно, сколько учеников в классе испытывают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трах или волнение на уроках какого-то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нкретного учителя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также какой ученик имеет наиболее низкую степень психологического комфорта.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125000"/>
            <a:ext cx="687060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бобщенные результаты работы психологической службы обсуждались на методическом совете школы, где был намечен план дальнейшей работы и определены задачи по изучению ситуаций в тех классах, где это необходимо. Была составлена программа совместной работы педагогов и психолога, с целью повышения комфортности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Проведенное исследование позволило сделать выводы: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изкая психологическая комфортность учащихся на уроке влияет на индекс качества обученности по данному предмету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спользование директивного, подавляющего стиля педагогического общения приводит к снижению степени комфортности и индекса качества обученност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06:05:11Z</dcterms:created>
  <dc:creator>user</dc:creator>
  <dc:description/>
  <dc:language>en-US</dc:language>
  <cp:lastModifiedBy>user</cp:lastModifiedBy>
  <dcterms:modified xsi:type="dcterms:W3CDTF">2011-05-18T05:36:13Z</dcterms:modified>
  <cp:revision>5</cp:revision>
  <dc:subject/>
  <dc:title>Влияние степени психологической комфортности на индекс качества обученности.  Педагог-психолог: Гололобова Л. В.</dc:title>
</cp:coreProperties>
</file>